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hyperlink" Target="http://www.transportes.gov.br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lanetaorganico.com.br/DaroltItaipu.htm" TargetMode="External"/><Relationship Id="rId3" Type="http://schemas.openxmlformats.org/officeDocument/2006/relationships/hyperlink" Target="http://www.planetaorganico.com.br/DaroltItaipu.htm" TargetMode="External"/><Relationship Id="rId4" Type="http://schemas.openxmlformats.org/officeDocument/2006/relationships/hyperlink" Target="http://www.planetaorganico.com.br/DaroltItaipu.htm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r.ing.tu-bs.de/" TargetMode="External"/><Relationship Id="rId3" Type="http://schemas.openxmlformats.org/officeDocument/2006/relationships/hyperlink" Target="http://www.ifr.ing.tu-bs.de/" TargetMode="External"/><Relationship Id="rId4" Type="http://schemas.openxmlformats.org/officeDocument/2006/relationships/hyperlink" Target="http://www.ifr.ing.tu-bs.de/" TargetMode="External"/><Relationship Id="rId5" Type="http://schemas.openxmlformats.org/officeDocument/2006/relationships/hyperlink" Target="http://www.ifr.ing.tu-bs.de/" TargetMode="External"/><Relationship Id="rId6" Type="http://schemas.openxmlformats.org/officeDocument/2006/relationships/hyperlink" Target="http://www.ifr.ing.tu-bs.de/" TargetMode="External"/><Relationship Id="rId7" Type="http://schemas.openxmlformats.org/officeDocument/2006/relationships/hyperlink" Target="http://www.ifr.ing.tu-bs.de/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9214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ormas para outorga de uso de recursos hídricos em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agos, reservatórios e rios fronteiriços e tranfronteiri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5373360"/>
            <a:ext cx="7200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rge Thierry Calas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erintendência de Outorga e Cobrança/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: 61-2109 5251 – e-mail: thierry@ana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71520"/>
            <a:ext cx="1152360" cy="4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Exemplo: rio Urugu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ratado entre o Brasil e a Argentina para o Aproveitamento dos Recursos Hídricos Compartilhados dos Trechos Limítrofes do Rio Uruguai e de seu Afluente o Rio Pepiri-Guaçu, 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 de maio de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§§ 1º e 2º do art. 1º condicionam a decisão para execução de cada projeto específico à troca de notas entre os governos brasileiro e argentino, sua execução sujeitando-se à conclusão de convênios de cooperação entre as entidades competentes designadas pela Partes Contra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§ 1º do art. 3º: o aproveitamento das águas do rio Uruguai e seus afluentes, nos trechos não compartilhados, será feito por cada país conforme suas necessidades sempre que não causar prejuízo sensível ao outro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2254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6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079640" cy="43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24360" y="6308640"/>
            <a:ext cx="2951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Fonte: site do Ministério dos Transportes   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transportes.gov.b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Exemplo: lago de Itai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tado entre a República Federativa do Brasil e a República do Paraguai para o Aproveitamento Hidrelétrico dos Recursos Hídricos do Rio Paraná Pertencentes em Condomínio aos dois Países, desde e inclusive o Salto Grande de Sete Quedas ou Salto de Guaíra até a Foz do Rio Iguaçu (26/04/197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rtigo I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Altas Partes Contratantes convém em realizar, em comum e de acordo com o previsto no presente Tratado e seus Anexos, o aproveitamento hidrelétrico dos recursos hídricos do Rio Paraná, pertencentes em condomínio aos dois países, desde e inclusive o Salto Grande de Sete Quedas ou Salto de Guaíra até a Foz do Rio Iguaç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2544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61920"/>
            <a:ext cx="7200720" cy="673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03640" y="6300000"/>
            <a:ext cx="4140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te: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planetaorganico.com.br/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DaroltItaipu.ht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100800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356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227640" y="6180480"/>
            <a:ext cx="291636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te: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nstitut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ür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Regelungstechnik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ifr.ing.tu-bs.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324000" y="214200"/>
            <a:ext cx="1079280" cy="4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Exemplo: lago de Itai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rando I/TE-FV 0069/02, de 27 de junho de 2002, do Diretor Técnico Executivo da Itaipú Binacional, que trata d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mite para Derivação de Água do Reservatório para Outros U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elece parâmetros para outorga, na margem brasileira, referentes a usos consun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,5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s para o período de julho a novembro,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2,5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s para o período de dezembro a jul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ropostas para a Re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9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olução CNRH de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na ausência de norma convencional específic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elencar as regras gerais aplicáveis, de acordo com o Direito Internacional, incluindo a proposta SOC, apresentada anteriorm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na existência de norma convencion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reafirmar a necessidade do respeito às regras específic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no caso de conclusão de novo acordo/convençã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determinar a necessidade de adequação das outorgas existentes às regras estabelec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0800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73160" y="1600200"/>
            <a:ext cx="40165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ei 9.433/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ÇÃO III - DA OUTORGA DE DIREITOS DE USO DE RECURSOS HÍDRIC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Nada a respeito de outorga em rios fronteiriços/ transfronteiriç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PÍTULO III - DOS COMITÊS DE BACIA HIDROGRÁFICA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rt. 39 § 2º: Nos Comitês de Bacia Hidrográfica de bacias de rios fronteiriços e transfronteiriços de gestão compartilhada, a representação da União deverá incluir um representante do Ministério das Relações Ex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15236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ei 9.984/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. 4º, inc. IV -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torgar, por intermédio de autorização, o direito de uso de recursos hídricos em corpos de água de domínio da Uniã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..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. 5º: prazos das outo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. 6º: outorgas preven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. 8º: publicidade dos pedidos de outo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da a respeito da outorga em rios fronteiriços/transfronteiri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15236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ormas infra-leg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RH/MMA - INSTRUÇÃO NORMATIVA Nº 004/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ciplina a solicitação de outorga de direito de uso de recursos hídricos de domínio fede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5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NA – RESOLUÇÕES Nº 135/2002 E Nº 707/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º 135: Dispõe sobre os requisitos e a tramitação dos pedidos de outorg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º 707: Dispõe sobre procedimentos de natureza técnica e administrativa a serem observados no exame de pedidos de outorga, e dá outras providê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ada a respeito da outorga em rios fronteiriços/transfronteiriç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29708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240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ireito aplicável à gestão das águas em áreas de fronte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c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ras gerais: princípios gerais do Direito Internacional Púb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ras específicas: tratados regionais ou bilater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7964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egras Ger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venção das Nações Unidas sobre o direito relativo às utilizações dos cursos d'água internacionais para fins outros que a navegaçã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va Iorque, 1997): codifica princípios gerais de direito, já reconhecidos pelo Direito Internacional Púb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08108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egras Ger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tre os princípios gerais codificados pela Convenção, encontram-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ibiçã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todo e qualquer Estad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 causar dan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mportantes ou substanciais a outros Est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rei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 todo Estad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uma parcela justa com relação ao uso de águ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 um rio ou lago internacion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 cada Estado de procurar, por meio d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ociações de boa fé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a solução para os conflitos que envolvem interesses referentes ao uso de águas compartilhad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1527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egras Ger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 dos princípios de Direito Internacional reconhecidos pela Convenção, e aplicável na falta de regulamentação específica, é o princípio do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uso eqüitativ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regra consagrada de forma implícita ou expressa tanto em numerosos acordos internacionais como em instrumentos programáticos de valor incit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08108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Regra proposta pela SOC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exclusiva para rios – não se aplica a lagos/reservató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falta de determinação convencional expres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 vazão outorgável em rios de domínio da União, situados na faixa de fronteira (divisa com outro país) será considerada, tendo em vista o princípio da precaução, como 70% da Q95% multiplicada por um fator que represente a proporção da área de drenagem da bacia, em território brasileiro, no ponto de aproveitamen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2720" cy="57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